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8DAE-3BCA-4656-A520-F164E0C49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14A9-932E-4850-A0DB-9AB53ADD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AB89-BDAC-4638-8CA2-0FD034307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89C2-10F5-4767-9FE0-A416AD5D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C820-65E1-4625-8790-3233D5EB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E372-4FB1-4B44-85BE-DAF92EF8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F0C0-2680-4232-8AFD-B4CD35A9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5028-FD50-4432-8B7D-2E4FCEEE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CB2C-E354-4CA5-8202-ACE180EB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15AF-AD6A-41F4-A6B0-02296363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5B62-4F26-47F4-9A6B-F714DAD8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6A4F-3128-4262-947D-1A609458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DB02-24A4-4041-9A07-A56A2FAA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7490-7C92-4024-A184-214E33BC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5BA3-7642-4BFC-A006-A68E2EAA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5C8E-01B0-47FB-BFAA-6827CEA35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1C50-5674-4E01-A92B-7E2F1FA01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4396-3406-47A7-B080-DB6F7787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963F-8997-4898-8A2A-A38B8DFC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264D-B937-41D8-8094-0F6840DE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065A-69C9-497E-974A-5F3C36D6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17BA-28A7-4743-83CB-77EF419E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357B-7D21-45C8-BDB4-00AE2AF7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45B1-CF43-42C0-AA32-73FBD0A5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55E6-30D0-4E2C-9F2C-9E73E5E5C2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1EE7-C453-49C4-BFC2-118BFC4B2D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yrene.org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Fox new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752480" y="1905120"/>
            <a:ext cx="5079960" cy="40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By: Cody ,Lucas, and Jose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464832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Volcano Erupt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cano erupts in Hawaii does 2.5 thousand in da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230480" y="1981080"/>
            <a:ext cx="27190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What causes volcano to erupt?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66800" y="1981080"/>
            <a:ext cx="76089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Effects of volcano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dsl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thquak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v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lan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lling a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80844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Safety Tip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y distance from volcano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touch the l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057400" y="1828800"/>
            <a:ext cx="4343400" cy="3124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09680" y="525780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00-679-729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505320" y="0"/>
            <a:ext cx="1726920" cy="162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lav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repell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ff"/>
                                      </p:to>
                                    </p:animClr>
                                    <p:set>
                                      <p:cBhvr>
                                        <p:cTn id="8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8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5480" y="-360"/>
            <a:ext cx="2819520" cy="6094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Resources 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fema.g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news.bbc.co.u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kidskonnec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volcano.und.nodak.edu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http://www.kyrene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binmaxey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ggestsof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4:26:17Z</dcterms:created>
  <dc:creator>D83  User</dc:creator>
  <dc:description/>
  <dc:language>en-US</dc:language>
  <cp:lastModifiedBy>D83  User</cp:lastModifiedBy>
  <dcterms:modified xsi:type="dcterms:W3CDTF">2011-03-23T19:19:17Z</dcterms:modified>
  <cp:revision>14</cp:revision>
  <dc:subject/>
  <dc:title>PowerPoint Presentation</dc:title>
</cp:coreProperties>
</file>